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D38-6EA0-4AB5-8848-C0627A04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62052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78C-4C91-4626-BA82-B662DF43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6205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6205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5A4-655E-4C4A-8D85-D7F726AF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91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91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62052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62052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62052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D40-9834-4920-9A9C-68222C63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FDF-6684-4B63-9846-CF302E59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83A-B249-400E-B661-04403760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A89-DB67-4EE4-A01D-4E2A1F4C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DDA-FE7B-464F-B298-964A47FF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0E1-7D7A-45DF-857F-30731F0C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6205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3D9-0F6B-4256-8A77-69B9D786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6205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1FC-3D83-480B-97B2-B8D8E092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91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62052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392-6113-4460-AF97-682F82B4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140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DD7A-11A2-400D-98E4-BCF22B917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C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0520" y="990720"/>
            <a:ext cx="5181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olicited IDL form of proposed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840" y="990720"/>
            <a:ext cx="2030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 of I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1160" y="1981080"/>
            <a:ext cx="35208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 to check rationale, conformance, commercial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205760" y="3886200"/>
            <a:ext cx="1447560" cy="1295280"/>
            <a:chOff x="7205760" y="3886200"/>
            <a:chExt cx="1447560" cy="1295280"/>
          </a:xfrm>
        </p:grpSpPr>
        <p:sp>
          <p:nvSpPr>
            <p:cNvPr id="46" name=""/>
            <p:cNvSpPr/>
            <p:nvPr/>
          </p:nvSpPr>
          <p:spPr>
            <a:xfrm>
              <a:off x="7205760" y="3886200"/>
              <a:ext cx="1447560" cy="129528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387200" y="4038480"/>
              <a:ext cx="111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24120" y="3886200"/>
            <a:ext cx="1447920" cy="1295280"/>
            <a:chOff x="3624120" y="3886200"/>
            <a:chExt cx="1447920" cy="1295280"/>
          </a:xfrm>
        </p:grpSpPr>
        <p:sp>
          <p:nvSpPr>
            <p:cNvPr id="49" name=""/>
            <p:cNvSpPr/>
            <p:nvPr/>
          </p:nvSpPr>
          <p:spPr>
            <a:xfrm>
              <a:off x="3624120" y="3886200"/>
              <a:ext cx="1447920" cy="129528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58560" y="4038480"/>
              <a:ext cx="80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s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76960" y="3886200"/>
            <a:ext cx="1447560" cy="1295280"/>
            <a:chOff x="5376960" y="3886200"/>
            <a:chExt cx="1447560" cy="1295280"/>
          </a:xfrm>
        </p:grpSpPr>
        <p:sp>
          <p:nvSpPr>
            <p:cNvPr id="52" name=""/>
            <p:cNvSpPr/>
            <p:nvPr/>
          </p:nvSpPr>
          <p:spPr>
            <a:xfrm>
              <a:off x="5376960" y="3886200"/>
              <a:ext cx="1447560" cy="129528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58760" y="4038480"/>
              <a:ext cx="111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71600" y="2057400"/>
            <a:ext cx="1447560" cy="1295280"/>
            <a:chOff x="471600" y="20574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471600" y="2057400"/>
              <a:ext cx="1447560" cy="129528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3400" y="2209680"/>
              <a:ext cx="111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643040" y="3733920"/>
            <a:ext cx="1676520" cy="1600200"/>
            <a:chOff x="1643040" y="3733920"/>
            <a:chExt cx="1676520" cy="1600200"/>
          </a:xfrm>
        </p:grpSpPr>
        <p:sp>
          <p:nvSpPr>
            <p:cNvPr id="58" name=""/>
            <p:cNvSpPr/>
            <p:nvPr/>
          </p:nvSpPr>
          <p:spPr>
            <a:xfrm>
              <a:off x="1643040" y="3733920"/>
              <a:ext cx="1676520" cy="160020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82720" y="4054680"/>
              <a:ext cx="138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-Da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405480" y="14619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20000" y="3173400"/>
            <a:ext cx="0" cy="73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5520" y="338148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+ wee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93760" y="146052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819480" y="45277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91120" y="451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610480" y="4484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656560" y="4527720"/>
            <a:ext cx="2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937720" y="1460520"/>
            <a:ext cx="0" cy="305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29720" y="1596960"/>
            <a:ext cx="202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est presentation/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43240" y="452772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11640" y="4476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65000" y="5367240"/>
            <a:ext cx="20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ear 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levance to indu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admap alig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chnical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5240" y="5538960"/>
            <a:ext cx="148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ati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/O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292200" y="451800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60600" y="4467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73080" y="5676840"/>
            <a:ext cx="238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all over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 RF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8240" y="5338800"/>
            <a:ext cx="501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51320" y="5162400"/>
            <a:ext cx="0" cy="51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984920" y="5146560"/>
            <a:ext cx="1134720" cy="53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38760" y="4991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41240" y="51832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9920" y="5081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17600" y="2370240"/>
            <a:ext cx="755640" cy="63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5440" y="237960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492280" y="2949480"/>
            <a:ext cx="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17720" y="269892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63960" y="348156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ignifi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95480" y="2452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5560" y="3317760"/>
            <a:ext cx="0" cy="27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95560" y="6046920"/>
            <a:ext cx="157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2860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j0078789" descr=""/>
          <p:cNvPicPr/>
          <p:nvPr/>
        </p:nvPicPr>
        <p:blipFill>
          <a:blip r:embed="rId1"/>
          <a:stretch/>
        </p:blipFill>
        <p:spPr>
          <a:xfrm>
            <a:off x="3517920" y="1751040"/>
            <a:ext cx="952560" cy="1127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V="1">
            <a:off x="2982960" y="2428920"/>
            <a:ext cx="824040" cy="2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75320" y="222552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3 vo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46280" y="1685880"/>
            <a:ext cx="16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rcial avai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464600" y="5111640"/>
            <a:ext cx="225360" cy="225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521400" y="4932360"/>
            <a:ext cx="0" cy="64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93800" y="1994040"/>
            <a:ext cx="569880" cy="37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14:19:23Z</dcterms:created>
  <dc:creator>jesmith</dc:creator>
  <dc:description/>
  <dc:language>en-US</dc:language>
  <cp:lastModifiedBy>jesmith</cp:lastModifiedBy>
  <dcterms:modified xsi:type="dcterms:W3CDTF">2001-11-06T15:13:54Z</dcterms:modified>
  <cp:revision>7</cp:revision>
  <dc:subject/>
  <dc:title>RFC Process</dc:title>
</cp:coreProperties>
</file>